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FB2F-411D-498B-B77C-B54F32D25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1888-2061-4FD5-8D34-C8959FAE3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6797-BDAB-4106-B445-48A0FDF16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9578-58BB-4EA5-93F5-DAB19B130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E5685-EB62-4479-8926-193D14E76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D0347-1C61-482C-98EC-E277EE575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ACC44-D8A2-4F5B-BE07-1D79915AE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87150-34E9-4CE3-88EF-D6687723D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91CAE-F6E5-4069-A4EE-23297AB34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F176F-4A62-49B9-98C5-3D83C45F9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50B40-F720-4368-B00A-B1ED704D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60A6-C7B9-4973-816A-6340C42A2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FA008-8361-40CE-85FA-93457C20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4224A-4C89-4799-9787-F41D760D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4C349-972C-46BA-9A59-88CFAE104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E1190-2C1F-4CEC-BBE0-EA5143955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06FB3-5894-4080-9B66-08BAF9884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B9AD-9FC4-4F71-8481-2E466BD8B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554F-B48B-4754-B037-3A0F6BF02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E6E1-100B-4C56-9BC3-5196C7611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8D13-B45E-4055-9843-D8ACF395A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580A-9979-487B-B7FE-20DAD43C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0C87-F3C4-4BCC-B609-002887D6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AB87-53D6-4862-85A3-5374506B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1C56C-68DD-4CCB-983D-25CC7543EC44}" type="slidenum">
              <a:rPr b="0" lang="ar-S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34EEF-FFCC-47E6-8DCF-D323E5B5064E}" type="slidenum">
              <a:rPr b="0" lang="ar-S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.wav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24000" y="838080"/>
            <a:ext cx="6696000" cy="518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190520" y="843120"/>
            <a:ext cx="676296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214280" y="852480"/>
            <a:ext cx="671544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224000" y="843120"/>
            <a:ext cx="66960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224000" y="843120"/>
            <a:ext cx="66960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224000" y="861840"/>
            <a:ext cx="6696000" cy="51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224000" y="843120"/>
            <a:ext cx="66960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8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233360" y="833400"/>
            <a:ext cx="667728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224000" y="852480"/>
            <a:ext cx="669600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214280" y="843120"/>
            <a:ext cx="671544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224000" y="843120"/>
            <a:ext cx="66960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224000" y="852480"/>
            <a:ext cx="669600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5T07:51:07Z</dcterms:created>
  <dc:creator>0mar a. ali</dc:creator>
  <dc:description/>
  <dc:language>en-US</dc:language>
  <cp:lastModifiedBy>0mar a. ali</cp:lastModifiedBy>
  <dcterms:modified xsi:type="dcterms:W3CDTF">2006-06-26T12:21:35Z</dcterms:modified>
  <cp:revision>3</cp:revision>
  <dc:subject/>
  <dc:title>Slide 1</dc:title>
</cp:coreProperties>
</file>